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72A-1045-4DC7-8692-F2B44D6C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240-B8FE-4ABA-92BA-6FDC8726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FC3-724E-4487-BDA3-F7792113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197-C42B-4F89-AFB1-6C6DC5CD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273-92AF-4EC9-B628-DCE160E2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9C3-1355-4E4A-A10C-5E253C58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9F1-D7CD-4C41-BD70-0A45B1D6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F00-C309-4915-BFF6-6DDF5C3F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B86-B0D1-42AF-880C-11D3D7F7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64E-B933-49B1-8494-DCD2228C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8B5-90BC-4B0B-9D87-08CBACBD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010-F630-46E6-88EB-CEAF9490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52FD-3FDE-4563-971C-687978C36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discuss.itacumens.com/gallery/1544_31_10_08_11_37_20.jpg&amp;imgrefurl=http://discuss.itacumens.com/index.php%3Ftopic%3D2989.0&amp;usg=__vZHx3vp7tdbeTAYZSdoSGG_sLZI=&amp;h=1200&amp;w=1200&amp;sz=382&amp;hl=en&amp;start=4&amp;itbs=1&amp;tbnid=FIaDQQOvwNlVsM:&amp;tbnh=150&amp;tbnw=150&amp;prev=/images%3Fq%3Dsports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Rey and Raf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Los dep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Tiger woods juega go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Oscar de la hoya le gust el bo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Michael jordon juega basquet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352680"/>
            <a:ext cx="260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El plan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S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M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Nept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Junp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Ve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mercu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352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as es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Invier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Primav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Ver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Ot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81280" y="1422360"/>
            <a:ext cx="45720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37:35Z</dcterms:created>
  <dc:creator>WSFCS Workstation</dc:creator>
  <dc:description/>
  <dc:language>en-US</dc:language>
  <cp:lastModifiedBy>WSFCS Workstation</cp:lastModifiedBy>
  <dcterms:modified xsi:type="dcterms:W3CDTF">2010-04-27T18:57:06Z</dcterms:modified>
  <cp:revision>3</cp:revision>
  <dc:subject/>
  <dc:title>La clase de espanol</dc:title>
</cp:coreProperties>
</file>